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E46-8C8F-4FDE-8E89-47082A8C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0F2-66E7-4B9D-90D3-66AEF9F7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E61-35AD-4830-84A9-CECAB997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A10-A54F-4C27-B56F-7DAFE111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EBB-4A66-4187-9B3B-FCF6500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DE31-5BF4-45F8-899E-40FF02C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D9F-441F-4CDF-B42C-CFC158D7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E06F-E0CB-417F-8FDE-01AF37B2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64E-1A0D-474F-BE41-1E04DA4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64E-07C7-4031-BB19-B754A6AC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E53-3C76-4E2B-88BB-376B60A5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878-BE97-414D-BDB1-22ABCF32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99E0-801B-4464-860E-18FFA3689D3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28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276360" cy="3657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343400" y="220968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he autumn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has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already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257800" y="5105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ow do you  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ote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1120" y="1066680"/>
            <a:ext cx="4952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been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w he is here. He can tell you wonderful stories about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been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 for two weeks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is still in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’s Peter?  H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as gone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ndon.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e is in Italy or on his way to Lon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j0160514[1]"/>
          <p:cNvPicPr/>
          <p:nvPr/>
        </p:nvPicPr>
        <p:blipFill>
          <a:blip r:embed="rId1"/>
          <a:stretch/>
        </p:blipFill>
        <p:spPr>
          <a:xfrm>
            <a:off x="152280" y="1066680"/>
            <a:ext cx="3962520" cy="50292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randomBa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3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3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3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M: have / has + pa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firm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ro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H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The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n’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n’t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s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ilm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nt ev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 is used to describ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recent events without a definite 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idea of time or place in the speaker’s mind makes the event recent. A time expression may emphasize recentness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ust, recently, l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572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00200" y="12952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ses of the presen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0343223[1]"/>
          <p:cNvPicPr/>
          <p:nvPr/>
        </p:nvPicPr>
        <p:blipFill>
          <a:blip r:embed="rId1"/>
          <a:stretch/>
        </p:blipFill>
        <p:spPr>
          <a:xfrm>
            <a:off x="5715000" y="3962520"/>
            <a:ext cx="1752480" cy="2133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85800" y="4611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are they so 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ju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on a prize so  they are really pl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randomBa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5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3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3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sonal experie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t is used to express personal experiences,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there is not a definite time given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expression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e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very often used with thi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"/>
          <p:cNvPicPr/>
          <p:nvPr/>
        </p:nvPicPr>
        <p:blipFill>
          <a:blip r:embed="rId1"/>
          <a:stretch/>
        </p:blipFill>
        <p:spPr>
          <a:xfrm>
            <a:off x="5410080" y="3276720"/>
            <a:ext cx="2971800" cy="26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5"/>
          <p:cNvSpPr/>
          <p:nvPr/>
        </p:nvSpPr>
        <p:spPr>
          <a:xfrm>
            <a:off x="685800" y="441972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have never been to Japan. Have you ever been the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 It is used to express actions that started in the past and continue to the present, the  time period is not finished. We us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is meaning. We us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eriods of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i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poi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562720" y="3365640"/>
            <a:ext cx="2057400" cy="120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43000" y="365760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n’t eate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nce yesterday morn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am really hung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143000" y="5181480"/>
            <a:ext cx="396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haven’t drunk anything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or two day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 am terribly thir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j0296036[1]"/>
          <p:cNvPicPr/>
          <p:nvPr/>
        </p:nvPicPr>
        <p:blipFill>
          <a:blip r:embed="rId2"/>
          <a:stretch/>
        </p:blipFill>
        <p:spPr>
          <a:xfrm>
            <a:off x="5410080" y="4724280"/>
            <a:ext cx="2438640" cy="175284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push dir="u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ontrast between Present Perfect  and Pas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use definite expressions with the Past simple tense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yesterday, last week, … ago etc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le we don’t use definite time expressions with the Present perfect t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ve b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rance thre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di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g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w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st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j0236582[1]"/>
          <p:cNvPicPr/>
          <p:nvPr/>
        </p:nvPicPr>
        <p:blipFill>
          <a:blip r:embed="rId1"/>
          <a:stretch/>
        </p:blipFill>
        <p:spPr>
          <a:xfrm>
            <a:off x="3003480" y="4952880"/>
            <a:ext cx="150660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j0415144[1]"/>
          <p:cNvPicPr/>
          <p:nvPr/>
        </p:nvPicPr>
        <p:blipFill>
          <a:blip r:embed="rId2"/>
          <a:stretch/>
        </p:blipFill>
        <p:spPr>
          <a:xfrm>
            <a:off x="5133960" y="2971800"/>
            <a:ext cx="248616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split dir="in" orient="ver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3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3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3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rald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s bough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 new car. He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bough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t wee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v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me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Ray? – Yes, I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me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im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 we were stude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 parents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ve be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o India. In fact, they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w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re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t yea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Ha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nybody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phon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e? – Yes, Joyce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phon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 hour ag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’v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se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at man before. – Really?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di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i="1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cff66"/>
                </a:solidFill>
                <a:latin typeface="Arial"/>
              </a:rPr>
              <a:t>se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143000" y="15228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ontrast between Present Perfect  and Past 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3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000"/>
                            </p:stCondLst>
                            <p:childTnLst>
                              <p:par>
                                <p:cTn id="2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867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Have you ever listened to classical music before</a:t>
            </a: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Where did you hear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609480" y="167652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ve you walked along a riverside similar to the one on the photograp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n did you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hecker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1:27:18Z</dcterms:created>
  <dc:creator>Dragana</dc:creator>
  <dc:description/>
  <dc:language>en-US</dc:language>
  <cp:lastModifiedBy>ACADEMIA</cp:lastModifiedBy>
  <dcterms:modified xsi:type="dcterms:W3CDTF">2013-04-02T17:23:48Z</dcterms:modified>
  <cp:revision>25</cp:revision>
  <dc:subject/>
  <dc:title>Present Perfect</dc:title>
</cp:coreProperties>
</file>